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19D5-8EB2-43A7-97A7-2E7D4C7099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8F75-2947-4D73-9616-F145E79C44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адачи, приводящие к        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понятию производ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ый проект по матема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Этапы и сроки проведени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Организационно-подготовительный этап </a:t>
            </a:r>
            <a:br>
              <a:rPr sz="1200"/>
            </a:b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   (1 неделя – 45 минут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. Постановка пробл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. Формирование групп, составление плана дейст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. Обсуждение возможных источников информации по поставленной проблеме, вопросов защиты  авторских пр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4. Самостоятельное распределение заданий внутри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94E4-C4D6-45E2-B238-107C2B4E75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Этапы и сроки прове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00"/>
                </a:solidFill>
                <a:latin typeface="Times New Roman"/>
              </a:rPr>
              <a:t>II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. Экспериментально-аналитическ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(1,2 недели - внеурочно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бор информации по проблемам исслед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наблюдений, экспери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нализ результ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нсультационо-координирующая деятельность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бсуждение, обобщение результатов исследований (общие вывод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6600"/>
                </a:solidFill>
                <a:latin typeface="Times New Roman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EB36-C465-4657-A73B-6F5BB6E2F4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Arial"/>
              </a:rPr>
              <a:t>Этапы и сроки провед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00"/>
                </a:solidFill>
                <a:latin typeface="Times New Roman"/>
              </a:rPr>
              <a:t>III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. Заключительный этап</a:t>
            </a: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(2 неделя – внеурочно, 1,5 часа – подведение итогов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ыбор творческого названия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формление результатов исследования в виде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презентации и букл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формление «Портфолио мультимедийных умен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результатов исслед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ефлексия деятельности участников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ценивание деятельности участников проекта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уч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818A-1E38-432B-B637-4C2276ABB2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Результаты исслед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Мультимедийная презентация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Бук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Остановись мгновенье! Мы тебя исследуе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Веб-сайт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CEDE-4421-453B-B5B2-0814E79FA9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Информационные 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«Обучение для будущего»: Учеб. пособие/ Под ред. Е.Н. Ястребцовой, Я.С Быховского. —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е издание испр. — М.: Интернет-Университет Информационных Технологий, 2006. — 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8 с.+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.      Журналы «Математика в школ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0A90-FDB4-4EAE-9F90-FB0CB01FB2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7D25-4FED-47D6-A40D-FBF872D066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ческие цел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предметной 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самостоятельной познавательной активности, навыков работы с большими объемами информации, умений видеть проблему и наметить пути ее решения, применять базовые знания для решения конкретной проблемы, развитие креативных способностей, логического мыш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коммуникативно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умения кратко, логично и понятно излагать свои мысли, математически грамотно говор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 социальной 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навыков работы в команде: умения отстаивать свою точку зрения, считаться с чужим мнением, проводить объективную рефлекс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A882-0BAD-45BA-AF16-340D5E065C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кажи мне, и я забу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окажи мне, и я запомн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Дай мне действовать  само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 я науч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фуц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B0F9-10CB-4A37-973A-624B3219E8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и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ормировать у учащихся осознанное понятие производной функ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ить школьников обрабатывать и обобщать полученную  информацию в результате проведенных вычислений и экспериментов,  научить пользоваться  PowerPoint для оформления результатов,  научить  кратко излагать свои мысли устно и письмен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ормировать навыки проектной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461A-A6FA-4F1B-AC84-B7A69B8F58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проекта в учебном процесс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6600"/>
                </a:solidFill>
                <a:latin typeface="Times New Roman"/>
              </a:rPr>
              <a:t>Предметная область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6600"/>
                </a:solidFill>
                <a:latin typeface="Times New Roman"/>
              </a:rPr>
              <a:t>Учебная тем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Введение понятия производной функ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3054-9E85-484F-9146-A657AC8A93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Основополагающий воп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тематика - это царица нау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ли их служан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D03D-6EC9-4AEA-971F-E14B7A66F6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исследовательский </a:t>
            </a:r>
            <a:br>
              <a:rPr sz="1200"/>
            </a:b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по доминирующей деятельност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межпредметный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(по предметно-содержательной област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краткосрочный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 (10.11 - 25.11.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по продолжительности выполнени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открытый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(по характеру координации проект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внутришкольный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(по характеру контакто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групповой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(6 человек – три команд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3C6D-976A-4A35-8DEE-1837A761DB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Проблемные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 Что такое мгновенная скорость с точки зрения математика ?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Какие характеристики  производной можно использовать для исследования функции  и построения графиков ?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Можно ли применить производную для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ения прикладных задач ?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8D6F-165A-4BBF-A345-E702AF54A9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Темы самостоятельных исслед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добрать и систематизирова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) задачи из курса физики и химии, приводящие к понятию  производн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) задачи из курса геометрии, приводящие к понятию  производн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) Задачи из курса экономики, приводящие к понятию  производ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7A79-2EE5-4986-9814-6E16C47C87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B52-C877-401E-8102-14928B5A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CB5-AFB4-4800-9F09-CE4D887C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439-70EF-43BC-9DAC-99CD7C4C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360F-CBAD-40AB-8C9A-840AF4DA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FBA5-563A-4902-A4D3-AEE08635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388C-F383-4D78-9EAC-E8AC7A46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E0CE-4065-4836-855B-CDAC703E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D4D1-56AC-429E-88DB-7E7C900F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1FAA-5FF6-4ADE-8A7C-8D49240D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E8E5-7BA8-40EF-9D18-89D871B8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67FA-BF6A-4F5D-B735-638CBAF3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3B71-5571-4A7A-BEEF-9FD2EEA4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F287-DC6E-44C2-A479-8DB919E6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73D5-B594-4096-BFD5-B9D09B94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AC50-A1ED-4594-8D95-E9395577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87F2-8A02-4A53-AD2B-70820A9C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8399-2251-4284-B78F-C47E9DFE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DE4A-C4AF-42BD-9051-D3168D47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6BF4-77D9-4233-8F2E-8A2A1439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591-0857-4929-90CF-AAA585E5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2B09-B709-4B3E-9F9D-948A5E1C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3B23-2CC5-46A6-BFDD-5FF3BC51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E3B9-CB46-4C64-958D-ED12422C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54AE-2A72-4EDA-8223-FCEDAB5E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710C-39D1-4C9A-9B87-D04892589D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52F4-26A9-4B48-A858-9E0975910F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400500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Задачи, приводящие к         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понятию производной.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276360" y="2708280"/>
            <a:ext cx="56322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бный проект 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056280" y="1052640"/>
            <a:ext cx="316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ль МОУСОШ №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рохов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ащиеся 10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0" y="1521000"/>
            <a:ext cx="1908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Учись учиться всю жиз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ершенствуй себя и умей находить истин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Этапы и сроки проведения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208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00000"/>
              </a:lnSpc>
              <a:buClr>
                <a:srgbClr val="006600"/>
              </a:buClr>
              <a:buSzPct val="9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Организационно-подготовительный этап </a:t>
            </a:r>
            <a:br>
              <a:rPr sz="2400"/>
            </a:b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   (1 неделя – 45 минут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. Постановка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 Формирование групп, составление плана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 Обсуждение возможных источников информации по поставленной проблеме, вопросов защиты  авторских пр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. Самостоятельное распределение заданий внутри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Этапы и сроки проведени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I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. Экспериментально-аналитически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(1,2 недели - внеурочно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бор информации по проблемам исслед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ведение наблюдений, экспери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нализ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сультационо-координирующая деятельность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суждение, обобщение результатов исследований (общие выво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00"/>
                </a:solidFill>
                <a:latin typeface="Times New Roman"/>
              </a:rPr>
              <a:t>Этапы и сроки проведе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II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. Заключительный этап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(2 неделя – внеурочно, 1,5 часа – подведение итог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бор творческого названия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формление результатов исследования в виде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презентации и букл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формление «Портфолио мультимедийных умен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дставление результатов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флексия деятельности участников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ценивание деятельности участников проекта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Результаты исследований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Мультимедийная презентация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Бук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Остановись мгновенье! Мы тебя исследуе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Веб-сайт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Информационные ресурсы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«Обучение для будущего»: Учеб. пособие/ Под ред. Е.Н. Ястребцовой, Я.С Быховского. —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е издание испр. — М.: Интернет-Университет Информационных Технологий, 2006. — 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8 с.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.      Журналы «Математика в шко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Автор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6443640" y="1628640"/>
            <a:ext cx="252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щиеся 10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мбарцумян Ануш, Дешевых Андрей,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ындин  Вячеслав,   Макаровская И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ликова Евгения, Морохов Алексан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1_1"/>
          <p:cNvPicPr/>
          <p:nvPr/>
        </p:nvPicPr>
        <p:blipFill>
          <a:blip r:embed="rId1"/>
          <a:stretch/>
        </p:blipFill>
        <p:spPr>
          <a:xfrm>
            <a:off x="1116000" y="1557360"/>
            <a:ext cx="5040360" cy="33512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7640" y="-27000"/>
            <a:ext cx="65534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Дидактические цели проекта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701360"/>
            <a:ext cx="8425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предметной компетент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самостоятельной познавательной активности, навыков работы с большими объемами информации, умений видеть проблему и наметить пути ее решения, применять базовые знания для решения конкретной проблемы, развитие креативных способностей, логического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коммуникативно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етент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умения кратко, логично и понятно излагать свои мысли, математически грамотно говор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социальной компетент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навыков работы в команде: умения отстаивать свою точку зрения, считаться с чужим мнением, проводить объективную рефлек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348000" y="58248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кажи мне, и я заб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кажи мне, и я запомн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ай мне действовать  сам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 я научу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кажи мне, и я забу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кажи мне, и я запомн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Дай мне действовать  самом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 я научу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фуц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5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Методические задачи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ировать у учащихся осознанное понятие производной функ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ить школьников обрабатывать и обобщать полученную  информацию в результате проведенных вычислений и экспериментов,  научить пользоваться  PowerPoint для оформления результатов,  научить  кратко излагать свои мысли устно и письм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ировать навыки проектной дея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Место проекта в учебном процесс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971640" y="2060640"/>
            <a:ext cx="784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Предметная область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Учебная тем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Введение понятия производной функ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544920"/>
            <a:ext cx="75438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Основополагающий вопрос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560" y="4861080"/>
            <a:ext cx="792180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тематика - это царица нау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ли их служан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042920" y="3333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260280"/>
            <a:ext cx="7543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Учебный  вопрос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84360" y="1514520"/>
            <a:ext cx="81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ввести понятие производной функции опираясь на известные понятия из предметов школьного курс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книга вопрос"/>
          <p:cNvPicPr/>
          <p:nvPr/>
        </p:nvPicPr>
        <p:blipFill>
          <a:blip r:embed="rId1"/>
          <a:stretch/>
        </p:blipFill>
        <p:spPr>
          <a:xfrm>
            <a:off x="6732720" y="258840"/>
            <a:ext cx="1439640" cy="8557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Тип проект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исследовательский </a:t>
            </a:r>
            <a:br>
              <a:rPr sz="2400"/>
            </a:b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по доминирующей деятельно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межпредметный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(по предметно-содержательной обла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краткосрочный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 (10.11 - 25.11.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по продолжительности выполнен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открытый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(по характеру координации проект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внутришкольный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(по характеру контакт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групповой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(6 человек – три коман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Проблемные вопросы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Что такое мгновенная скорость с точки зрения математика ?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Какие характеристики  производной можно использовать для исследования функции  и построения графиков ?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Можно ли применить производную для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шения прикладных задач 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0920" y="27756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Темы самостоятельных исследований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обрать и систематизиров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задачи из курса физики и химии, приводящие к понятию  производ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задачи из курса геометрии, приводящие к понятию  производ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Задачи из курса экономики, приводящие к понятию  производ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07:57:20Z</dcterms:created>
  <dc:creator>Секретарь</dc:creator>
  <dc:description/>
  <dc:language>en-US</dc:language>
  <cp:lastModifiedBy>LEGION</cp:lastModifiedBy>
  <dcterms:modified xsi:type="dcterms:W3CDTF">2015-01-26T10:34:55Z</dcterms:modified>
  <cp:revision>41</cp:revision>
  <dc:subject/>
  <dc:title>Слайд 1</dc:title>
</cp:coreProperties>
</file>